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6A38-24FF-4C7D-8BDF-C74D8653A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114C-B3BD-405E-AA60-5489AA1DFD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0846-14D6-4BAE-B496-D1733A7686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AA71-3CC6-45F1-87EC-6517564748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DE48-4C3E-4CA0-AAB7-5420559745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4005-A2F2-4957-870B-53E8FA3634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5E68-EF76-42BA-9BC9-BC020319A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7F5C-759F-4449-BE11-B9C40C0C14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01E0-4A57-4469-BF4B-9B7DFBF243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D17-A848-40F4-B10E-F8FA355E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B1B-9579-4477-9FE8-A1D47F46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F84-B554-4965-8C16-69CC758B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3E1-90CE-4BD7-885C-03EB24C7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E23-7104-479F-B484-AE50F7D8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036-AD3B-43C7-A103-84EE55A8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32D-9FBF-4477-B236-857D5EA0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7AA-4300-4D7D-B962-7897A5C7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752-D5A2-4599-A4AC-380C3ADA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5B5-D3CA-4ED2-BD17-5A589E10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5CF-A105-416D-94A9-A11AF611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2A7-E6E5-4FD6-8AD4-D6A3CE03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F8C4-2A60-4D12-B565-3C1ACC48A12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ing an O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ep 1: Select a Subjec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ep 2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phrases describing how your subject makes you feel and why you feel this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ep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many phrases telling unique qualities of your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ep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why your subject is important to you and why you adore it so much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ep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 some of your phrases into lines for your ode. Remember they don't have to rhy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ise your li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away any lines that are too sim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 more feeling to any meaningless l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ck a good opening line or sent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er the remaining lines into their best seq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 a good closing line that clearly expresses your feelings about the su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rite your ode in a final draft and maybe even add an illus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44:32Z</dcterms:created>
  <dc:creator>San Diego City Schools</dc:creator>
  <dc:description/>
  <dc:language>en-US</dc:language>
  <cp:lastModifiedBy>Siracusa Brittani</cp:lastModifiedBy>
  <dcterms:modified xsi:type="dcterms:W3CDTF">2014-04-14T14:18:10Z</dcterms:modified>
  <cp:revision>2</cp:revision>
  <dc:subject/>
  <dc:title>Writing an Ode</dc:title>
</cp:coreProperties>
</file>